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12.xml" ContentType="application/vnd.openxmlformats-officedocument.theme+xml"/>
  <Override PartName="/ppt/theme/theme36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sldIdLst>
    <p:sldId id="256" r:id="rId38"/>
    <p:sldId id="257" r:id="rId39"/>
    <p:sldId id="258" r:id="rId40"/>
    <p:sldId id="259" r:id="rId41"/>
    <p:sldId id="260" r:id="rId42"/>
    <p:sldId id="261" r:id="rId43"/>
    <p:sldId id="262" r:id="rId44"/>
    <p:sldId id="263" r:id="rId45"/>
    <p:sldId id="264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" Target="slides/slide1.xml"/><Relationship Id="rId39" Type="http://schemas.openxmlformats.org/officeDocument/2006/relationships/slide" Target="slides/slide2.xml"/><Relationship Id="rId40" Type="http://schemas.openxmlformats.org/officeDocument/2006/relationships/slide" Target="slides/slide3.xml"/><Relationship Id="rId41" Type="http://schemas.openxmlformats.org/officeDocument/2006/relationships/slide" Target="slides/slide4.xml"/><Relationship Id="rId42" Type="http://schemas.openxmlformats.org/officeDocument/2006/relationships/slide" Target="slides/slide5.xml"/><Relationship Id="rId43" Type="http://schemas.openxmlformats.org/officeDocument/2006/relationships/slide" Target="slides/slide6.xml"/><Relationship Id="rId44" Type="http://schemas.openxmlformats.org/officeDocument/2006/relationships/slide" Target="slides/slide7.xml"/><Relationship Id="rId45" Type="http://schemas.openxmlformats.org/officeDocument/2006/relationships/slide" Target="slides/slide8.xml"/><Relationship Id="rId46" Type="http://schemas.openxmlformats.org/officeDocument/2006/relationships/slide" Target="slides/slide9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BD40-22F3-41D7-8F8A-9AF9753BA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2CB7-1F85-4831-86B5-B6ACAD70E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47275A-2D77-4D7F-A06C-1478671B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FACA02-8BAB-4DD9-9915-DBE04E025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585151-2672-4501-8752-FB8F56A9C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977B4F-66C5-4749-AAC3-6E9B1001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29852D-A582-4049-9A3C-207D1AA7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327DEB-26B8-4907-82DD-58F24318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F3BFAC-99BE-4F51-8253-99E204315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1E2611-B552-47A8-949C-C40467C8B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C41D8B-85FF-4F30-8874-3AE8D97E9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0A3922-5EB5-4F48-AEF0-53DCE8B91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D5C0-E701-47BD-8D24-F352B0955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43E13F-4826-4FFA-94AA-5E915D8EA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FBF7F6-2C7C-4C5E-86AC-6EDEF6043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3A41B0-2379-4971-9399-E4B3358D4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E4CF95-1A2A-4459-A766-3B828E87B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F45496-AA5D-4695-A51D-D957D56B7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97650F-CF9D-4FCC-BFAB-517AD330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A1B226-580D-4083-9A5A-6EFE100B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2A7B03-9CCF-4109-9EB7-5CE1BDB9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7E3461-8CFC-4697-9C33-74026B321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5D0E7D-3821-4FBC-B444-8F5CCDAA7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02D1-21D9-4054-B2F4-3836FD8E5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24958E-9808-4F57-A710-27534CF98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9718D06-1D31-4BD3-8B47-59936FF2C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2EC46FC-50E8-4E21-B30E-1469FBB7B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3F52C90-DB5A-4213-A658-5645EF550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3A850C9-DECA-43E2-850E-C3E3A9FAE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A7C7B6D-D4D9-447C-8238-643BD4A00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79ECA63-2B22-484A-B326-02CA6CA48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F4C0D11-093F-4618-8600-5E5DA40C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E8A1FAD-D18C-488B-A0D2-A3B150C6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2FC1F7F-7880-40DF-B94F-AA2EE202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6AB64-B6A4-419D-9764-DA73E12F6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6EC7A1D-D2C3-4EC2-9DCB-5A74D3938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37D23E4-BB40-4A5A-BBFD-FAD8DB75F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CDAEAA8-11B2-403B-A0D7-B3D9FBAB1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7A7DCC-C417-440E-9095-53D500076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B04AC9-C172-4B70-85D5-80F3857B4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A984B6-F16F-4236-88BF-2ED27B8B2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10000E-2AD4-4BB7-9176-AEDFD3523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C96220-7BCF-447D-8BCC-170BB51A0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D920DB-DB0C-44BE-80AB-7322CFAF7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DE8677-63D6-49DD-8D63-93B78F2B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74431-E507-4E92-8776-78155442F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ADB437-F800-464C-9269-E6B5277B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0C3D34-AD32-4999-A9F3-C3C41167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6DE1BA-16E1-4825-B7FC-992413FE6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33299A-D81E-4668-B17B-4B246D6C4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72B537-95EA-4CB9-B77F-44926240C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20C94B-B94E-4703-95A7-BF9CB80F2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F31E27-8BAB-4282-A57E-2F1364EA8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4D894B-6EF0-4678-A68F-8B76C64F8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937423-D0A3-47B5-A06A-C174D2D0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1BD793-D1AB-4CFD-8AD6-FFF776FE0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2143F-2125-4402-AAE5-47E2E9C30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2BC250-9385-4004-A771-EBC6A9E76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9BDE15-A25B-4B72-93C3-20D97228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A3ADB8-F008-4933-AB27-E9579C3D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A9C6A2-2C97-402D-93E6-24E82D5E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83D8FE-F8FB-476F-AC67-82AE91CE5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456AE3-FD13-4EC5-820D-C2DA8AEC5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6B2E9B-3255-452C-97B9-E7F5A608A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54EABAB-934D-4C0C-B2BF-716BB69DB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34D2618-08B9-4FC5-AA07-CB3C26BB5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C3F2AAA-B86C-433A-A53F-3759B31E7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45F7F-363F-4D5B-8AA4-9D226623E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622DB9E-F512-401A-83FF-1FA911009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BD2E20F-1BA1-4991-81C6-8510D3438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CD54F5D-F267-42BC-9CE2-B68F7409A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D4D822D-184B-4413-ACE4-284E4E29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E7F9A6E-C0EF-4876-AB39-6A3AB9E1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60A50EA-A62B-4CAC-A66A-BCD05140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5DC8045-5436-4957-8942-4EBB311B3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3F327E0-37F3-49F8-A020-6638E9682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5CD0F70-9B9D-4ED7-95AE-503870648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3EE593-15C4-44F0-BF81-616C8A3B0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F1E3B-860F-4F44-9F23-FDCC9DE2C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B39266-9E78-4843-8A65-EF59DB761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DC78D5-7328-4D48-AA1F-F7AA42772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A17B6B-4624-482B-A84A-A218D9678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B12216-E424-40C8-B3C9-F1C06EEAC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136A10-54D5-40A5-89D8-5BB789917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F4C45D-38B5-44F8-BB23-3C9F8B89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73CC51-0601-45CB-A1C9-87912EAB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1FB39C-AA32-41A4-9122-740AA7EF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8DF72B-7620-49C4-8F80-08FE284BD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1D7B7C-CD87-47CB-A9C1-F13212489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21EA9-E721-4FF6-A589-0825A11FC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B8E946-E687-46C6-A245-C89EC163C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FB4531-AA2E-43D7-A52E-5D7E4A563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E5BD2F-68ED-49AB-B9DE-662E95CA5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263E36-D2F7-4548-B3C6-B125106DF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3C3589-5A79-4289-9C35-39F1CC36B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47DF36-AA6D-43EF-92AB-31880D9B4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C3B3D5-CFA2-484F-BC79-29D087CCE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74AB61-756D-4A4C-90F9-7F52453C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E81572-0077-434F-9F62-3853B282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C92F35-CFAC-4E9A-A73F-B58C10F2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68A33-FD5B-4262-9D2D-3779F99C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805EF5-9036-4065-B275-0FCC0818E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06180F-3347-4E4D-8412-FF159A8B3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911A24-784F-42DA-800B-6498E8A82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BCA0A7-8A4F-4D69-B345-4CCE69D5B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6417C7-5ADA-49A9-9953-B4F9D860A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08BBB3-362A-4CB8-9AF0-D72524FF3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2955C8-48E1-4A87-8255-7B9657CDE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B1834D-EC29-4B4D-8081-B693BFEF7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201D00-5ABD-4FD3-A758-4822E5190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1D02AB-783A-4103-99C8-811AFAE2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753C-94B9-4EDF-BD8F-68445383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09B0D-0173-468D-98FD-375A0674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191936-63D0-4C1C-9F40-315C95F1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578F61-CC4B-47CB-993C-0A5C8A44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9AE6FD-BC6B-411D-9C96-0D14DC4DD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B461B8-5735-45CE-ABF9-83F9D10F6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751DBD-9F87-4EAA-AD86-F34E4064D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9E1005-47D9-4959-9023-F079580A0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E5086F-25FF-4DAF-B844-51E2328CD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B9A250-098C-4396-94E2-7720093C4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6757CE-A62A-4FF1-BAFE-CB73C1DE0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6057F2-53FC-4BF3-8DF0-ACD90002F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3064B-88FF-43AE-B83B-C599583C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4F777E-A1C9-490E-94C3-641A48BA1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507D83-1DFF-44F6-932E-28FF581E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74CD8A-3BAE-44C3-B848-A5A4C430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00CC47-05B0-468D-8FF9-B0BA5A6F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9D664F-40FE-4065-99CE-E9C4ACB1C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304E41-BBBD-49BB-A5FE-DF32A5923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E52604-3C37-4923-A315-90C960E25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724A8D-4D13-4CF1-84EE-9B7062CBF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5EBE5E-F067-490A-95C2-AA22BDAA9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E86EAB-1841-49B9-8F3A-9FE31040F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3587B-94D3-4F4F-A155-2A570A67D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15CADC-13AB-4B3D-8940-5AD68C912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2948FE-144B-4D07-AC6C-FDD72C196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85F9C3-B77E-4427-BCB7-55B487FC2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C348BE-F219-4645-AFA3-7C78CD14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F3268B-7747-46EA-BBCB-7D248893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643E27-817D-4975-9DE5-087B0C2D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B75939-39C9-43C4-B0C6-15BFFDB9C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1C8BDA-8C62-43EA-98C9-4005CA71B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41C818-A84B-422E-8616-80A1D976D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4D5DC0-49D2-4A06-8CC0-FD59D0098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5EEB2-4C5B-4A53-B8FD-9016B0080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61F410-9CB9-4ECF-9169-F53EF1097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8349E7-3B20-442B-BCFF-8A5F1F980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017860-DCAB-4CFE-BD4C-0F0874AF7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A0B920-8045-4B6D-BA3F-E6714A78B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F9622B-76D8-4C8F-8AF3-93E05D5E3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31C192-5B1C-40A4-9E52-DD4C47AF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909556-1E79-4BD8-AC69-5C9E5D82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4888A0-C7EC-4360-92C6-8AD976C3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E91733-38DD-47F9-8D87-7C6E98D46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F22B62-0663-453E-8479-64FD347CF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73C5D-5E4E-44B7-8E8F-14DE4CB0B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281A1C-C68E-4FA4-AD1B-167B1EC10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FFABAB-7288-486A-B294-F40B7A6F2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AD1202-8442-4865-ABF9-4C3DB3CAD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37142A-1BE4-40CD-A758-B095D965A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71A4D3-A1DD-4E73-AAC9-DA60D2FAC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A54257-6D30-4989-9725-EE1034DA7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39F19E-8903-4FF6-84A5-1F3EC8317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D9FEF6-D70D-4D09-A09B-D32ECA7E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5D90F3-6AD5-400E-84DE-32502874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E17EA9-DFB0-4F85-97F6-8092EAFC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AD2FB-3EB2-447C-82F3-ECF378726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D47970-6909-450D-91AB-70484D76A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10D94F-994F-467F-80C6-74F634A8C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EE3B34-C7AE-4ECE-9FC4-E574CD041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1FB5422-05CB-4B80-892F-40FC0EFA5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5A6CADC-9946-4397-BEF1-D979962D3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D10EFDE-38BF-4711-BCF1-DBB9B3315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85ED80C-F96E-4FD6-8A06-B8435E2F9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4682479-2A12-4B39-974C-A4D8A63DB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1EAF632-4C87-483D-BA2C-5363102DA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F11D8F8-F8E7-485D-8F71-6CC9977E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564B4-FF57-41DE-8790-17EDA4498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9F367F5-82E5-446D-8349-E64D8168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89BF681-FA16-4BB0-B7BE-E1819F1C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3CEF293-EEA1-4EB6-BBC8-1E0E84EDF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B56A6C8-1048-4CA8-A42E-92C4B6340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E745549-2255-4B23-BAF2-16EAAE1CB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10A0ED53-B8C9-430A-BB24-24D3E8F80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F65FB90-CDA2-45D0-9795-7343E3EE8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DBCDA45C-BA5A-47BC-A1E1-DCC4B902B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824F598B-29F4-43AA-8653-9D45BFDC2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92E1745-2535-4D2C-96B3-8EDFC5D60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6EBDE-26C2-4EE0-AC83-217458889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387ECAA1-CE9D-441E-A79B-3CEDAF803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8465BB8C-4740-4144-9230-46879567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CDAC5413-29CD-4976-A7F0-0E332926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2C0B081-512A-4F5D-A2DF-8F3329A6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8E3099FF-DE64-4660-8136-1FC53DEB2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EB6568E-61DA-4657-AA5F-EC568D3A7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D5A98B48-622F-4B0E-BCAF-D1FB3C6D0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B6CDE15-24C8-4D6D-AFF0-535A46E3A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3A3707C-F79A-48A2-BE0A-D6BDE00DD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A44A5F6-B5EE-4222-B5D6-6E0FD517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8FE86-67B8-4FE8-BD0D-CA4C1BB71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83AC6EB-325C-43C7-90D5-263294F00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727870E-141B-45D8-86E0-3FC5537D0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15D7360-2E80-4AFD-9B66-0B4B06CDB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F5B5A41-6343-4432-9381-E274E1C0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AEA6548-1431-46C5-9960-0BE656C6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7C7C4B0-FD13-4BA7-B488-C8A43096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317B3FA-B014-4963-B896-7632AC81A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DA1A013-420F-49B0-B9D7-56D215042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0DDB537-550B-41A7-A630-7AF54CB82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2ABE1679-A82F-4F12-B726-407AE84FC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9CD86-4546-4CF8-A9D3-8945E0DCD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8F9BB949-6595-4092-93DB-1E14042B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0BDED04A-B83F-4C47-AA07-BE217F825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D6239B81-9319-4209-A0CA-65E20B841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B1CF8F9-58AA-4B10-8B09-424F428DB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355694AE-1FE1-4702-91AD-90A1262E9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B262ECA-8C92-481A-9641-5DADA69B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F243DCD3-4524-40F7-8592-9C4B23E4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2FCB5445-4053-41A8-AEA3-DEBEBB22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330FF6DD-B9B7-4667-AE5A-9D62ADC5A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87E0E97B-BD43-4C10-8BAA-7F1CAC4AE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CE58-C511-452D-97C8-E81819B03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97540-DDD3-4D81-8E0B-A1053915E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D060785C-A8F6-4BC0-A3BD-CBE90D32E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5A64AFF-6158-4D17-ABC0-FA6FE3185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0F31DB5-ECE2-4B08-8295-7FF043F65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7FE984F-3AC8-4A3C-B05D-4C56B7463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202A2D8-47A5-4657-90BC-3F61D2782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60AFC13-F71C-4C8C-9187-DF43CD0CA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913DF6E-534B-49F9-BD1B-0130375B3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508CF3E-7810-49E6-B992-CBAC7443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27917E1-7B7C-4012-9DE4-73D73926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EE2B78E-1942-40AB-9D43-566D9781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59341-21F7-4066-806B-1015676B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9A5240A-348A-40F3-8E14-5739F44C5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84EE157-EB5B-4297-B615-D237830F7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05489E7-5529-43BF-8531-AF2D70078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B53BC2B-6697-4CBE-9B32-2A5DA4C4B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798CAF6-7542-4023-B86B-487290B06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7C9A90D-6C79-484E-B67E-8112CAB9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A3AED29-F7C6-4CA5-A6EA-55241A454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6578292-468E-4911-A956-0C2650F44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431C0C1-E242-49E7-B815-CB6E7EE0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0B93A86-78D5-4F20-B1FD-E190EEF5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0CDD6-F9FD-49C5-817B-E8C73E32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6DAC6B9-A4FB-4666-9BEF-C397BE4F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4A453B8-D3BE-4398-9490-FEA9607A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B95353C-564F-471C-AD26-F424F2077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BBAA081-5308-4685-83C1-16BF1CC2C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9B55CA2-B453-4537-ABF7-2BED071CD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D6A4AC9-6AEB-4D90-BF00-609343939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6AC64F4-0D6D-4C1E-BFAE-AF1C2B72F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61A9227-AD66-4E0B-9D32-1BA8946A5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2EA89DE-6276-44DE-8122-7FBEF1467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ADDB640-4164-403D-831E-0005A8245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60654-4BFA-46F8-A0C3-43E2FF74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12E6826-E23B-49E6-9938-A19C6010C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FC211EE-24E9-4DE1-A1B1-0BC4C536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5577273-44D2-4985-8E77-48793C43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42BD5FC-0832-4176-8473-D48823E9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4C533AC-7FC2-4904-8ED0-4598DACAA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DDC426C-5152-4903-AF33-B8C2D2A5B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59733A5-DE1F-48F6-9555-D9A2D303E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E9C76ED-243B-45A1-B446-B5FB0C75E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22A1E3A-A9A4-4AB6-B957-0B89B9C96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C62FF9C-AECD-4DE8-8FA7-5D0BFA7BE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0B6F7-8719-4592-82D9-9B7CCBD9F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7AD1A33-667F-42F3-8C70-9738D3694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1B6AC3E-30DA-48AA-A320-5B954280A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A25B11C-414E-45FD-A476-3913F3261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C186C10-2C41-4B16-B1B4-5CDAC9E0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794B2A0-6B3F-4158-881B-D3EF91EE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F2E5988-A788-47F8-ADA8-046CF89A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77AAD30-A8F2-49A2-97B8-5E45992B9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A72AEA3-8300-4E62-ABA8-5660144FE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D047342-7B17-473F-9A66-210501440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A575AD5-51FB-4144-BF8D-FDCB7176A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5D4BB-646B-44D9-951D-F994FB30B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B7DDD1E-23AF-4386-925A-6B9CDB4D7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B505F44-B52C-4A8B-B5BE-D574619F5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93F1859-4F00-4BA4-954A-E281562B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51DCB4E-0DBB-4E24-954D-6C771998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5F99E2F-DA2B-48B3-858B-6D9060441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E1FE140-A9CC-432F-82E5-C3ED739B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E51862B-9942-4AD2-9BBC-E27E1127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E640F73-ED49-48A9-B560-98224359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DA8757D-3CBC-4B4B-8CA4-845C6E60A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56A3019-4EF5-48EC-AEB5-0873FED03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027D3-8947-4E6B-90D2-3331B2A3C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5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6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5CFE751-7A98-4122-B9B5-43FB76D34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F4AD717-4D3F-4EE8-B9D0-C370BE9AE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4C1169D-455E-45F1-B761-D6B280FB3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B86AB52-BC11-4028-9B7E-58A8B4DEA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3B4B79A-2310-4D2A-8077-120BFB017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B5933A3-5D30-4C2E-9F40-5C886C087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27D7E43-3B40-47AB-A91A-4CDF3D92E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C9FA7EA-AC52-47DA-99D9-3742BCA4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7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8B0441D-D38F-4B9B-AB92-1866C834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51606A6-E448-4042-961E-1A797647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E8B79-CEB2-4E67-9D89-73B09A05B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312B8EF-EB00-421A-80D7-38E7BF28E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9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651E7B7-7510-425E-A4B9-AEAD025F7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3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4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5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6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F53E380-E04C-48C6-8294-EEE0E9A65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BA562BE-D2D5-4927-9F83-93E029B89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F874C0D-2079-4A89-AC44-30E019E6F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FAB6A4E-8524-46F9-89AF-5527B24C6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456B1CD-B4E7-436C-96C2-2EF26395A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386A1AD-A728-40DD-B3C4-E0BEA90C9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D37DCF3-66FC-456F-A501-9C1746DD5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E4DF74D-AA50-416E-91F7-C1D86BAE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161AE-BDE7-4230-826C-48BAE41F9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26A954E-5B2E-4D4B-9D81-8813C5A1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934BA6B-E2F1-4B70-BFE2-1A6DCEAA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69B5AF5-50D6-4642-8DA3-82990A66C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527F853-D9E6-447B-BF71-534547592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F6154D3-6F33-4EDE-B6A2-735493DC2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BEEA0FFD-B7B3-41D5-AC49-3AB54CAEF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20145AC5-0E28-4F46-AE12-536C594CF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4FAA762C-9D74-4189-9832-1BE2ADC40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F438D33A-31FC-464A-A10C-C05FFECF4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C944F714-703F-4B43-99F6-C9F2F1CAC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0BCB9-07D6-4BAF-8CDC-FA472925A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DDE68D4E-31E7-47D1-BEAA-B6B2766FD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4A7DC0AA-7BED-4C21-98F4-0F65EFCD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F65C3DB0-0F10-4EF7-B016-B3E4ECE0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B91740EB-C83B-46EA-9878-AD60F17A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1FCCCA70-08C6-42A3-B951-BAA5B69AF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46029A41-AB90-44F8-B4A8-B6CD2C74A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4920FEEE-FC1F-4489-A1C3-AB3FBA98E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2D7F3A25-8249-4BCB-967E-5977FC1A8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62A1F81A-207E-47D2-8C78-DA556A044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C8AF88F7-2B96-4AFA-8EAF-7E6AE50CE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C945-A288-412A-8BAA-E03C1716D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5E096-697B-444B-ACCE-8CED66FF9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C818AE77-2DBE-475A-B8DD-5093890B4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3F6F340F-3001-45EE-BF15-E71F7AC2D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EA93B8CF-2536-48F2-B5E7-6D4533506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A183AB1E-D0C9-42D2-B932-6F4CA0F9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D19A3F79-5676-436F-A87E-BA819AD8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3780E15F-5D55-45C9-B1DD-A23C2921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040F3DD4-11D9-4B73-BCD3-E8EBC1E40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37C095F9-A486-44F6-A63A-933B3B594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BFFFE987-EFAD-438C-B73B-2DCDB1E49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1E0A4EE-5A52-4792-8FC7-841AEE620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FCC2E-9450-463E-995A-C6279B301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CFAF29E-AB50-4D5F-8D7E-9B3223D35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5457122-351C-405A-9FBC-5D5E7278A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0D22FEB-AD13-4D92-BEC1-5BF90EC2E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AD1E360-47C7-42AA-9738-87DB6BF39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3038CC5-A71B-4971-98B8-3214E45B4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87FEB18-A403-447C-996D-760FE306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4052B6E-B4F5-4616-905D-F1AC71BE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9A0E1A9-D7B4-4E13-BB82-08510A27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9B5B842-44F8-4D26-8138-1A1451764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EC5176D-63E0-49AD-9240-89E257626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53E04-6B0E-4962-82E5-7FFBB77ED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8ACDEA7-C6CD-4411-BDCA-73746DD43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FAD1C301-E037-4B26-9931-580A46B9C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CE661961-B266-4962-8AEE-898C960B3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4BFF9983-32ED-4D0E-ACF5-A24F5EC49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338ABEF5-37EB-457D-BC01-5799A750D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D6728B73-9B5E-46F2-A6D7-3DC1F48C3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9BCBFDE9-14C7-4B45-96AE-D1687CEDE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F871F5F6-2F2D-4BD0-AE57-1FE46809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2E1EEBA0-39D0-4126-AE43-963F8F06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06977163-40C0-4EF2-ADBF-A6EADACF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5A34F-7943-449B-8464-E8310131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DEA42053-3DF9-40CE-AD72-AE524F4C1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3D7F42B4-1E97-4E1C-B22B-B624A5E12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D5E4B625-4035-48EC-8151-611D3DFB6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6D187-7F45-4741-85BA-395450B0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046AA-38AB-4FCC-85C2-E16BAB0A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99045-FEE9-41E7-AA9B-64AAC54C7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C32BB-CF9C-440F-84F2-8F5C58ADD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93321-2A11-4EB0-9513-780D2A6E0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A596E-52E0-4EAA-A8CC-4156E31E0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9121-54B4-4D2A-8D0F-697A36C1A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F5018-DA5F-426D-BB2E-18C13A377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DE7A9-9E3D-46F8-B78E-20C57794A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BF57E-CECF-45FC-89CC-8C5942AA2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84951-9911-4160-8506-D45C27BF0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AEBB3-2CC5-489B-8D2F-66ACA009D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2DC08-70C0-46EA-AD95-CB867A80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FF193-1A9C-43D1-B82E-3CA47CD7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F846B-989C-4A3F-A054-6F386C91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CA58C-5AA8-4B94-B291-FE6B1F960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2D7A7-B15C-4D7E-9C8F-B421DC401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7B17-697A-4A16-9A54-05B13DF05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3F219-9417-448D-8B67-0CCD1921A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BA533F-F7D8-4904-AD23-5BE03B896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ECF1C-ED14-4642-A687-AA65304F7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53A77-D664-4364-9B3F-9498AB8C4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EA1F2-C765-46FA-B88B-6ABCC3AC3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742B87-B440-4612-8475-057C60456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1C468-7FD6-4821-8355-7352C9444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3D23E2-3969-422E-87EC-789F241C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84A6C-C9BB-4BA5-AF51-4155C201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F63A5-634E-4913-8667-CAA141E8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8DFB-BCA9-49C4-949C-FA25AD16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4CB7E-CB0C-4F24-83A3-44094D5B0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58A87-56C9-4721-9BAA-4B06B69F3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8A12C-024C-4014-8500-0BD42E529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89326-DD05-4F94-A0BD-CC2923837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21E1E-68F8-496F-A155-1DEA56545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1AB27-3239-4867-9AEF-C9DB82EDE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CB93B7-5854-45E1-9C0B-021FD168D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E0E4F-D118-4CB7-9D26-6EA92B221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9E5C8-2049-485E-8CC1-4822607AA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01573-6ED4-455A-B65B-BA88EA13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1E42-EA88-41E7-A7E2-6B51656F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E80AF3-8AA5-4E6F-A04C-A893C547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0CF168-6C7C-4808-872E-21425EC5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E60AF-AA43-448E-BBF2-9F0E72C69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9068F-D798-4BAA-8892-7E192CEA5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B1DC9B-51DD-45BB-9B26-35FBE798B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0B2FC1-4718-4086-828A-36B4C779F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B21EAE-7BD7-4960-93E2-2E93122B5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17B39A-1826-4872-B42D-BCF38964F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CD67B7-CE62-434C-9DCC-558CA329C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F6185C-8D00-4EBF-B906-384A1EA79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997F-7578-420B-BEF3-0E2C426D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6FCA55-588F-4059-A2A2-F4AD86C5A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377EC3-7AB8-46CD-A357-6F8E9FCD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49A765-3501-4216-8FE5-3F1CB663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A2BC03-DD8E-4A2A-A2D7-46257031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8A10D8-138B-423F-BF72-6D542D667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C61413-8A18-41AE-9988-29CB76476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F94ED-58E9-400F-B644-B3CCA5AB3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EB2409-CE61-479E-A600-CE3684042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435D06-C7F5-452B-9FC1-68B687EE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3A746A-A6CD-4C13-99D3-22065B729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9F8A3-D445-4E39-BCD3-FDE037445D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28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29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0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381A2-4CFD-46CA-85F8-3DC005475E4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Straight Connector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Ov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Ov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Rectangle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sldNum" idx="31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0E76C-2413-416E-AE48-8A8EFAD8FC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dt" idx="3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ftr" idx="33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Straight Connector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Ov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Rectangle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5B1F6-50AF-44E7-9456-EB61EBF6E5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3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3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39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EC2B5-14FB-448F-AAC5-05F95F8779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0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1" name="Rectangle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Straight Connector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3" name="Oval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4" name="Oval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 type="sldNum" idx="40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FDD20-E433-40C7-9088-B0870EAD43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 type="dt" idx="4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 type="ftr" idx="4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9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Straight Connector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2" name="Rectangle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3" name="Oval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Oval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 type="dt" idx="43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 type="ftr" idx="4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 type="sldNum" idx="45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9ED43-A5CB-452C-B98F-8CE9980529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 type="dt" idx="4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 type="ftr" idx="47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 type="sldNum" idx="48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90D13-E272-4DF4-BC91-943F01EA66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7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8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9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0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1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2" name="Rectangle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3" name="Rectangle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4" name="Straight Connector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5" name="Oval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6" name="Oval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 type="ftr" idx="49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 type="dt" idx="50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 type="sldNum" idx="51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3F725-5E00-4D5A-A3AE-00FB9F123C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9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0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1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2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3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4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5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6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7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 type="dt" idx="52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 type="ftr" idx="5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 type="sldNum" idx="54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3D634-23C5-4FB9-A8C7-C84E0F5B23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0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1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2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3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4" name="Rectangle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5" name="Rectangle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6" name="Straight Connector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7" name="Rectangle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8" name="Oval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9" name="Oval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 type="dt" idx="5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 type="ftr" idx="56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 type="sldNum" idx="57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AEE7B-9F4A-4F32-B458-4C97B04CA7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6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806BE-E391-4988-ADD2-AE44098820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2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3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4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5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6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7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8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9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 type="dt" idx="58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 type="ftr" idx="59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 type="sldNum" idx="60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A369D-551B-4C8C-BF39-9265F9E493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2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3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4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5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6" name="Rectangle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 type="dt" idx="6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 type="ftr" idx="6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 type="sldNum" idx="63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CD657-9631-495D-95C2-FAF272C48F8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Rectangle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9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0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1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2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3" name="Rectangle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4" name="Rectangle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5" name="Straight Connector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6" name="Ov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7" name="Ov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8" name="Rectangle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 type="sldNum" idx="64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5DD84-5984-42BA-85E6-3FA996AAB3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 type="dt" idx="6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 type="ftr" idx="66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Straight Connector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2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3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4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5" name="Rectangle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6" name="Rectangle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7" name="Rectangle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8" name="Ov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9" name="Ov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0" name="Rectangle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 type="sldNum" idx="67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75987-88BD-439F-A7A4-00D3105D4F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 type="dt" idx="68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PlaceHolder 5"/>
          <p:cNvSpPr>
            <a:spLocks noGrp="1"/>
          </p:cNvSpPr>
          <p:nvPr>
            <p:ph type="ftr" idx="69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 type="dt" idx="70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 type="ftr" idx="71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5" name="PlaceHolder 5"/>
          <p:cNvSpPr>
            <a:spLocks noGrp="1"/>
          </p:cNvSpPr>
          <p:nvPr>
            <p:ph type="sldNum" idx="72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B5C3D-BB28-483E-896D-BAC0516903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3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4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5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6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7" name="Rectangle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8" name="Straight Connector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9" name="Oval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0" name="Oval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 type="sldNum" idx="73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BDD4E-B17E-42E9-891F-3A50424246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 type="dt" idx="7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 type="ftr" idx="7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3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4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5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6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7" name="Straight Connector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8" name="Rectangle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9" name="Oval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0" name="Oval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7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77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78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1D570-BA40-46B9-90D6-6C20C821F2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 type="dt" idx="7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 type="ftr" idx="8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5" name="PlaceHolder 5"/>
          <p:cNvSpPr>
            <a:spLocks noGrp="1"/>
          </p:cNvSpPr>
          <p:nvPr>
            <p:ph type="sldNum" idx="81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79B4D-A426-46AD-A995-1857308433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4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5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6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7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8" name="Rectangle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9" name="Rectangle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0" name="Straight Connector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1" name="Oval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2" name="Oval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 type="ftr" idx="8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 type="dt" idx="83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PlaceHolder 5"/>
          <p:cNvSpPr>
            <a:spLocks noGrp="1"/>
          </p:cNvSpPr>
          <p:nvPr>
            <p:ph type="sldNum" idx="84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05E15-0C48-4680-B8A0-BFD441AF48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5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6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7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8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9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0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1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2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3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 type="dt" idx="85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 type="ftr" idx="8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8" name="PlaceHolder 5"/>
          <p:cNvSpPr>
            <a:spLocks noGrp="1"/>
          </p:cNvSpPr>
          <p:nvPr>
            <p:ph type="sldNum" idx="87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358F5-D06A-49F0-BBAF-A756FF3FA3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Num" idx="9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DFB7F-0694-4882-BB25-2C3EDF318C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6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7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9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0" name="Rectangle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1" name="Rectangle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2" name="Straight Connector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3" name="Rectangle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4" name="Oval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5" name="Oval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 type="dt" idx="88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 type="ftr" idx="89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 type="sldNum" idx="90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69730-1AED-4272-BDA4-1A6344CE72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8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9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0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2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3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4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5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 type="dt" idx="9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PlaceHolder 4"/>
          <p:cNvSpPr>
            <a:spLocks noGrp="1"/>
          </p:cNvSpPr>
          <p:nvPr>
            <p:ph type="ftr" idx="9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0" name="PlaceHolder 5"/>
          <p:cNvSpPr>
            <a:spLocks noGrp="1"/>
          </p:cNvSpPr>
          <p:nvPr>
            <p:ph type="sldNum" idx="93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46ED6-DA40-4B8F-B3A4-D5D97D66A4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8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9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0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1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2" name="Rectangle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 type="dt" idx="9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 type="ftr" idx="9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7" name="PlaceHolder 5"/>
          <p:cNvSpPr>
            <a:spLocks noGrp="1"/>
          </p:cNvSpPr>
          <p:nvPr>
            <p:ph type="sldNum" idx="96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E0367-D9DF-46D6-A916-237B1CB429F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7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9" name="Rectangle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0" name="Rectangle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1" name="Straight Connector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2" name="Ov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3" name="Ov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4" name="Rectangle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 type="sldNum" idx="97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ED19F-852D-407E-AB11-B751CA10E9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PlaceHolder 4"/>
          <p:cNvSpPr>
            <a:spLocks noGrp="1"/>
          </p:cNvSpPr>
          <p:nvPr>
            <p:ph type="dt" idx="98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PlaceHolder 5"/>
          <p:cNvSpPr>
            <a:spLocks noGrp="1"/>
          </p:cNvSpPr>
          <p:nvPr>
            <p:ph type="ftr" idx="99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Straight Connector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7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8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9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0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1" name="Rectangle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2" name="Rectangle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3" name="Rectangle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4" name="Ov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5" name="Ov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6" name="Rectangle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 type="sldNum" idx="100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5CBD6-6E1C-43F1-9C66-F49995A17B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 type="dt" idx="101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PlaceHolder 5"/>
          <p:cNvSpPr>
            <a:spLocks noGrp="1"/>
          </p:cNvSpPr>
          <p:nvPr>
            <p:ph type="ftr" idx="102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9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0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1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2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3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4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5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6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9" name="PlaceHolder 3"/>
          <p:cNvSpPr>
            <a:spLocks noGrp="1"/>
          </p:cNvSpPr>
          <p:nvPr>
            <p:ph type="dt" idx="103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PlaceHolder 4"/>
          <p:cNvSpPr>
            <a:spLocks noGrp="1"/>
          </p:cNvSpPr>
          <p:nvPr>
            <p:ph type="ftr" idx="10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1" name="PlaceHolder 5"/>
          <p:cNvSpPr>
            <a:spLocks noGrp="1"/>
          </p:cNvSpPr>
          <p:nvPr>
            <p:ph type="sldNum" idx="10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C6B2A-9C63-46F8-8FDE-FA61F326D5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9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0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1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2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3" name="Rectangle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4" name="Straight Connector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5" name="Oval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6" name="Oval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 type="sldNum" idx="106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4186A-5DE9-441F-9713-69BE4640F2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 type="dt" idx="10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PlaceHolder 5"/>
          <p:cNvSpPr>
            <a:spLocks noGrp="1"/>
          </p:cNvSpPr>
          <p:nvPr>
            <p:ph type="ftr" idx="10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Straight Connector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Oval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Oval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A8C03-B8A0-4238-A3B2-B86ACBB19B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83804-4A50-487B-A035-C934DA7C78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Straight Connector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Oval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Oval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ftr" idx="1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dt" idx="1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0D193-436E-4496-899A-25F718AA0F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19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09E5C-D417-41A1-B652-9A173D93EC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Straight Connector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Rectangle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2" name="Oval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Oval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4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AA9F3-A745-4223-AB34-31F09863AA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27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A8F6A-58F8-4875-A520-2EED3DE3EC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Rudyard_Kipling" TargetMode="External"/><Relationship Id="rId2" Type="http://schemas.openxmlformats.org/officeDocument/2006/relationships/hyperlink" Target="http://en.wikipedia.org/wiki/Rudyard_Kipling" TargetMode="External"/><Relationship Id="rId3" Type="http://schemas.openxmlformats.org/officeDocument/2006/relationships/slideLayout" Target="../slideLayouts/slideLayout18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PART 2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Kony 2012 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as the video successful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at do you think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Joseph Kony is still alive and free in Afric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is rebel group is still active and still recruits children as soldier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merican citizens and most of the world has not pressured their governments to do anything about Kon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Media Coverag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anadian News Video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George Clooney video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Is Kony 2012 a version of Activism or Slacktivism?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Slacktivism: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 the concept that social media users are confused into thinking their tweets, likes, or shares can make a differenc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s the Kony 2012 video an example of this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riticism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2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oday show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N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BC Video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Invisible Children Respond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Video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Kony 2012 Part Two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What happened to Kony 2012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Invisible Children CEO speak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riticism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3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Not accurate fact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Lack of content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Gives a bad image of Uganda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Western hero activism (White Man Burden)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a3d6"/>
                </a:solidFill>
                <a:uFillTx/>
                <a:latin typeface="Georgia"/>
                <a:hlinkClick r:id="rId1"/>
              </a:rPr>
              <a:t>Rudyard </a:t>
            </a:r>
            <a:r>
              <a:rPr b="0" lang="en-US" sz="2000" spc="-1" strike="noStrike" u="sng">
                <a:solidFill>
                  <a:srgbClr val="00a3d6"/>
                </a:solidFill>
                <a:uFillTx/>
                <a:latin typeface="Georgia"/>
                <a:hlinkClick r:id="rId2"/>
              </a:rPr>
              <a:t>Kipling</a:t>
            </a: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- 1899- Western world needs to civilize other cultures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What is the next step to catch Kony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Too much money goes to foundation (2 out of 3 dollars goes to the foundation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Minimal impact of social media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Celebrities don’t do anything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Video supports military action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rais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arted a conversa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wareness has been raise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ducated people about what had happened and is happen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obilized the world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opping Joseph Kony is the objective, more pressure can’t hur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Questions to Consider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at depth did the video have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f the video is inaccurate does it matter?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s the video (faults and all) still beneficial for the cause to stop Kony?/ Is it ok to lie or “stretch the truth” for the greater good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ould you donate to Invisible Children to stop Kony or for future causes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fter class last week, do you try to find more information out about Joseph Kony? Why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2T10:35:11Z</dcterms:created>
  <dc:creator>eduffy25</dc:creator>
  <dc:description/>
  <dc:language>en-US</dc:language>
  <cp:lastModifiedBy>eduffy25</cp:lastModifiedBy>
  <dcterms:modified xsi:type="dcterms:W3CDTF">2013-10-22T11:42:33Z</dcterms:modified>
  <cp:revision>19</cp:revision>
  <dc:subject/>
  <dc:title>Kony 2012</dc:title>
</cp:coreProperties>
</file>